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C97-A8F0-43B0-970D-39582520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CD6-7382-484D-9FA8-E3E7ED2D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F84-E0BE-4408-8F1B-DBD1D27D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435-C819-4D03-A6BA-293E4798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DBDF-D438-4559-8EFF-3D1DAFCD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DD66-A1D5-44BC-8B47-4A1047A8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59A3-F2B7-459A-96EC-210F82E8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5710-0C81-4137-B3F6-B18943AA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94E7-58F6-4676-8C23-5EE613AE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BB59-2DBC-42B5-8A85-08B723A9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0F40-FF93-4616-A83A-BC2158F7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1FA-55E0-44E1-B8FF-40FC1214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B0BD-6840-4B67-B1DE-759D0262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C623-819A-4714-9B53-D387BAF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AA3E-C53C-46E9-B17D-A5577A7B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C958-5FEC-47EB-81D1-E3C0EBE7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DC1B-9E65-44E6-A6CB-BD825D35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D21D-EEBD-41B4-A64A-AEBC17AE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A9C2-9B1A-4935-96F8-0F7BA287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38D7-9473-4DA9-8287-1186EEBD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829D-6799-4945-8329-02170310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0A80-C684-4C99-9068-8C015A79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9C6-23E2-46BE-881D-A8BD72E7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E94F-8724-44F8-A438-36CF6BAF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247A-ACA6-4C7E-BEA6-28ED1B0C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FA70-6D93-4A7B-872F-01D80115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B85E-D3A3-403F-8106-A1473B4A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9123-1B53-4679-B3BF-AECBDCBC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E669-23BF-4E63-9A93-30C140DD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DC78D-EC54-42B5-B838-5A0C736D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0152-588E-4ABE-9399-842E8D28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2ABF-65E6-4375-81C7-E433D71B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ECE53-B29B-4458-97E4-6ACEC926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FFB-1209-4849-BF45-75EEDA78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4A66-33DA-4683-AC99-D11FAF27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0E41-28B7-4F9A-B702-7D82CCBF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376C-E2D7-45C6-A86B-D0C8224C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F3006-437E-4FAC-A177-926F27F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065E3-457A-48E3-B4ED-90466461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9194-9ADD-4BD1-9941-6C8C5FB5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4E4F-4010-45F3-BE6C-3EC630EC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4FDB-31D5-41D9-9E1E-D070CA49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4D578-242D-4279-934A-57A3DD7A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B3AB4-5AE1-4913-B35D-9F9FF28A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256-31F3-4538-8AEE-B3A2E5D2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BA780-8903-42E3-B162-B976E0CC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A06D-B19E-45B7-AB4C-4A38AD68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B6A97-7235-411B-8279-85F8180F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D2E22-4477-4311-8E7C-6C811DD4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0B607-2452-4EC0-A816-7DCEB88F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6C8F7-1B12-472F-B694-A28748D2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69D4B-FC5C-447B-80BE-3976FFBF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E63DA-E6A9-4A15-BDAB-32689F2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B1C0-8E8B-4319-B2CA-3EFE5815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0BDB5-306C-4D08-B980-5702F883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4EC-97E2-4040-ABCC-EB4ED0F9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BADFB-519A-49AD-A96A-C96A15A4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7A90B-D3E3-4520-94DE-F3EA8D03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60C06-C090-467F-826F-94FF179A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09601-5D5E-42C1-B6B5-35C9E6FA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F92E5-B128-4D0C-B724-1518B17B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9DA55-7228-4E4D-B0D2-58E7DDF4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84365-10CD-44C4-A848-97A34BF5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E233-2517-459A-9113-61946291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D46D9-D930-45A5-8DBA-349864A7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C6DBD-36A6-4007-A24F-FB1C83A5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373-FFA7-4E1B-BE37-9EA5BC72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6633D-78EB-4B13-8291-A45ADFF5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5F7FC-78D2-4EA8-85AD-0DEF0F78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9DA6-FA03-471C-8E33-E0A6C556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6206C-6061-4B8E-9930-B27AADC3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0A0F4-1671-4D9E-A197-576A5944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66194-2A1F-48CF-9EEA-37BDDCF1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41195-F784-4A7E-9EA9-B6D076B1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4E570-161F-4D45-A730-6E046B28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6762D-14FA-41C5-8BCA-8FACC0EE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F04E9-1CAB-4945-B056-1F0E8676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E19-8DB8-42B4-9F4E-31AD2029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56329-4422-4F27-92D5-1B4B3A95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B74C1-2EDF-4F16-8A86-6767F4D8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0AB89-20BC-41B8-A957-BD6001B6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6DAA8-7A73-4D8A-8AC2-42E89B61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EA1C4-AEF9-47F7-84AA-2A122029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F41-6681-4E99-AC3D-3D2A5D7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2ED5-4911-48BA-B096-D481166DF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3574-37EB-45E5-9D14-B843C3BFF8E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F459-D2DE-4F83-B3B2-E5858FA3750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89C9-F161-4F91-8425-C31A347DB16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C304-4C9E-4453-943C-19FA86ACCB1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mag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0200" cy="557280"/>
          </a:xfrm>
          <a:prstGeom prst="rect">
            <a:avLst/>
          </a:prstGeom>
          <a:ln w="0">
            <a:noFill/>
          </a:ln>
        </p:spPr>
      </p:pic>
      <p:pic>
        <p:nvPicPr>
          <p:cNvPr id="204" name="Image 7" descr=""/>
          <p:cNvPicPr/>
          <p:nvPr/>
        </p:nvPicPr>
        <p:blipFill>
          <a:blip r:embed="rId3"/>
          <a:stretch/>
        </p:blipFill>
        <p:spPr>
          <a:xfrm>
            <a:off x="8317080" y="115920"/>
            <a:ext cx="718920" cy="6481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872C-790F-4CF6-A99B-634C584AC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987E-6DD1-4D2E-A820-81F0614FA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0" y="667800"/>
            <a:ext cx="5688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Estrangelo Edessa"/>
              </a:rPr>
              <a:t>« La qualité des parcours et la mobilisation du public, force et enjeux des PLIE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261040" y="3483000"/>
            <a:ext cx="2378160" cy="10191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10" descr=""/>
          <p:cNvPicPr/>
          <p:nvPr/>
        </p:nvPicPr>
        <p:blipFill>
          <a:blip r:embed="rId2"/>
          <a:stretch/>
        </p:blipFill>
        <p:spPr>
          <a:xfrm>
            <a:off x="5454720" y="60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289" name="ZoneTexte 6"/>
          <p:cNvSpPr/>
          <p:nvPr/>
        </p:nvSpPr>
        <p:spPr>
          <a:xfrm>
            <a:off x="5292720" y="4653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Thierry SAYM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54061"/>
                </a:solidFill>
                <a:latin typeface="Calibri"/>
              </a:rPr>
              <a:t>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"/>
          <p:cNvSpPr/>
          <p:nvPr/>
        </p:nvSpPr>
        <p:spPr>
          <a:xfrm flipH="1">
            <a:off x="4858560" y="20509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Journées Techniques Europ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04/07 et 05/07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96280" cy="5462640"/>
          </a:xfrm>
          <a:prstGeom prst="rect">
            <a:avLst/>
          </a:prstGeom>
          <a:ln w="0">
            <a:noFill/>
          </a:ln>
        </p:spPr>
      </p:pic>
      <p:sp>
        <p:nvSpPr>
          <p:cNvPr id="390" name="ZoneTexte 3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613080" y="117324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4. Réussir sa période d’activité en entrep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oneTexte 4"/>
          <p:cNvSpPr/>
          <p:nvPr/>
        </p:nvSpPr>
        <p:spPr>
          <a:xfrm>
            <a:off x="25092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6 engagements (C5 à 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8 et C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« Accompagnement à la prise de poste et dans l’emploi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971640" y="3220920"/>
            <a:ext cx="64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</a:t>
            </a: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Etre conforter dans son choix et s’y prép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Faciliter l’intégration dans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Confirmer les objectifs de l’étape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6"/>
          <p:cNvSpPr/>
          <p:nvPr/>
        </p:nvSpPr>
        <p:spPr>
          <a:xfrm>
            <a:off x="971640" y="475632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médiation fine entre l’employeur et le candidat /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sécurisation de l’intégration du nouveau salar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 7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6" name="Image 8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7" name="Image 9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0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1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144720" cy="23148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2" descr=""/>
          <p:cNvPicPr/>
          <p:nvPr/>
        </p:nvPicPr>
        <p:blipFill>
          <a:blip r:embed="rId6"/>
          <a:stretch/>
        </p:blipFill>
        <p:spPr>
          <a:xfrm>
            <a:off x="1187280" y="5516640"/>
            <a:ext cx="1447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32720" cy="2576520"/>
          </a:xfrm>
          <a:prstGeom prst="rect">
            <a:avLst/>
          </a:prstGeom>
          <a:ln w="0">
            <a:noFill/>
          </a:ln>
        </p:spPr>
      </p:pic>
      <p:sp>
        <p:nvSpPr>
          <p:cNvPr id="402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32720" cy="326700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900000" y="1020240"/>
            <a:ext cx="9036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T5. La recherche d’actions d’insertion de formation </a:t>
            </a:r>
            <a:br>
              <a:rPr sz="2800"/>
            </a:b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et d’emplo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27000" y="2030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4 engagements (C14 à C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17 « Evaluation de l’éta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5"/>
          <p:cNvSpPr/>
          <p:nvPr/>
        </p:nvSpPr>
        <p:spPr>
          <a:xfrm>
            <a:off x="684360" y="306864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information systématique sur les off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aide à la prise de décision pour chaque 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prise en compte de sa situation 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4360" y="4653000"/>
            <a:ext cx="7272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e développement de l’autonomie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et des axes de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oopération avec les acteurs de l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mage 7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0" name="Image 10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2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3" name="Image 13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42920" cy="23148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4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142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3349800"/>
          </a:xfrm>
          <a:prstGeom prst="rect">
            <a:avLst/>
          </a:prstGeom>
          <a:ln w="0">
            <a:noFill/>
          </a:ln>
        </p:spPr>
      </p:pic>
      <p:sp>
        <p:nvSpPr>
          <p:cNvPr id="416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oneTexte 1"/>
          <p:cNvSpPr/>
          <p:nvPr/>
        </p:nvSpPr>
        <p:spPr>
          <a:xfrm>
            <a:off x="1619280" y="692280"/>
            <a:ext cx="612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La labellis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Les engagement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3"/>
          <p:cNvSpPr/>
          <p:nvPr/>
        </p:nvSpPr>
        <p:spPr>
          <a:xfrm>
            <a:off x="611280" y="12747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L’évaluation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4"/>
          <p:cNvSpPr/>
          <p:nvPr/>
        </p:nvSpPr>
        <p:spPr>
          <a:xfrm>
            <a:off x="611280" y="191628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mesure de l’atteinte des objectifs lors d’entretien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u nécessaire réajustement du parcours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5"/>
          <p:cNvSpPr/>
          <p:nvPr/>
        </p:nvSpPr>
        <p:spPr>
          <a:xfrm>
            <a:off x="611280" y="285264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évaluation de la progression du parcours 2 fois pa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e maintien de l’adhésion du Participant et la coconstruction du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84360" y="386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L’évaluation des résultats de la fin de période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oneTexte 7"/>
          <p:cNvSpPr/>
          <p:nvPr/>
        </p:nvSpPr>
        <p:spPr>
          <a:xfrm>
            <a:off x="684360" y="450864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es compétences acquises et de l’évolution pers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définition de l’objectif prioritaire de l’étape 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8"/>
          <p:cNvSpPr/>
          <p:nvPr/>
        </p:nvSpPr>
        <p:spPr>
          <a:xfrm>
            <a:off x="684360" y="544500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formalisation de la synthèse des acquis et axes de prog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actualisation du dossier « papier » et « informatique » du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2017 – Récapitulatifs des écarts les plus consta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3280" y="177300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 retour aux prescripteurs / résultats de la phase d’accu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e la validation du projet et mise à jour de 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vantages et inconvénients des solutions propo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formation du Participant sur le suivi pendant l’emploi/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u suivi avec l’opérateur d’étape (Formation – I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ctions mises en œuvre pour valider le pro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lèche vers la droite 1"/>
          <p:cNvSpPr/>
          <p:nvPr/>
        </p:nvSpPr>
        <p:spPr>
          <a:xfrm>
            <a:off x="395280" y="5516640"/>
            <a:ext cx="649440" cy="576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ab0d8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2"/>
          <p:cNvSpPr/>
          <p:nvPr/>
        </p:nvSpPr>
        <p:spPr>
          <a:xfrm>
            <a:off x="1116000" y="5375880"/>
            <a:ext cx="7129440" cy="825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rôle exigeant sur la formalisation 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s actions à mettre en lien avec les objectifs d’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Imag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29" name="Image 5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0" name="Image 5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1" name="Image 5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Image 5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222120" cy="360360"/>
          </a:xfrm>
          <a:prstGeom prst="rect">
            <a:avLst/>
          </a:prstGeom>
          <a:ln w="0">
            <a:noFill/>
          </a:ln>
        </p:spPr>
      </p:pic>
      <p:sp>
        <p:nvSpPr>
          <p:cNvPr id="433" name="Plus 18"/>
          <p:cNvSpPr/>
          <p:nvPr/>
        </p:nvSpPr>
        <p:spPr>
          <a:xfrm>
            <a:off x="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us 19"/>
          <p:cNvSpPr/>
          <p:nvPr/>
        </p:nvSpPr>
        <p:spPr>
          <a:xfrm>
            <a:off x="32400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us 20"/>
          <p:cNvSpPr/>
          <p:nvPr/>
        </p:nvSpPr>
        <p:spPr>
          <a:xfrm>
            <a:off x="611280" y="1916280"/>
            <a:ext cx="303120" cy="288720"/>
          </a:xfrm>
          <a:custGeom>
            <a:avLst/>
            <a:gdLst/>
            <a:ahLst/>
            <a:rect l="l" t="t" r="r" b="b"/>
            <a:pathLst>
              <a:path w="303212" h="288925">
                <a:moveTo>
                  <a:pt x="40191" y="110485"/>
                </a:moveTo>
                <a:lnTo>
                  <a:pt x="117628" y="110485"/>
                </a:lnTo>
                <a:lnTo>
                  <a:pt x="117628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1" y="110485"/>
                </a:lnTo>
                <a:lnTo>
                  <a:pt x="263021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8" y="250628"/>
                </a:lnTo>
                <a:lnTo>
                  <a:pt x="117628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us 21"/>
          <p:cNvSpPr/>
          <p:nvPr/>
        </p:nvSpPr>
        <p:spPr>
          <a:xfrm>
            <a:off x="395280" y="4581360"/>
            <a:ext cx="303120" cy="287640"/>
          </a:xfrm>
          <a:custGeom>
            <a:avLst/>
            <a:gdLst/>
            <a:ahLst/>
            <a:rect l="l" t="t" r="r" b="b"/>
            <a:pathLst>
              <a:path w="303212" h="287338">
                <a:moveTo>
                  <a:pt x="40191" y="109878"/>
                </a:moveTo>
                <a:lnTo>
                  <a:pt x="117815" y="109878"/>
                </a:lnTo>
                <a:lnTo>
                  <a:pt x="117815" y="38087"/>
                </a:lnTo>
                <a:lnTo>
                  <a:pt x="185397" y="38087"/>
                </a:lnTo>
                <a:lnTo>
                  <a:pt x="185397" y="109878"/>
                </a:lnTo>
                <a:lnTo>
                  <a:pt x="263021" y="109878"/>
                </a:lnTo>
                <a:lnTo>
                  <a:pt x="263021" y="177460"/>
                </a:lnTo>
                <a:lnTo>
                  <a:pt x="185397" y="177460"/>
                </a:lnTo>
                <a:lnTo>
                  <a:pt x="185397" y="249251"/>
                </a:lnTo>
                <a:lnTo>
                  <a:pt x="117815" y="249251"/>
                </a:lnTo>
                <a:lnTo>
                  <a:pt x="117815" y="177460"/>
                </a:lnTo>
                <a:lnTo>
                  <a:pt x="40191" y="177460"/>
                </a:lnTo>
                <a:lnTo>
                  <a:pt x="40191" y="10987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Image 5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222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ZoneTexte 2"/>
          <p:cNvSpPr/>
          <p:nvPr/>
        </p:nvSpPr>
        <p:spPr>
          <a:xfrm>
            <a:off x="68436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</a:t>
            </a: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3"/>
          <p:cNvSpPr/>
          <p:nvPr/>
        </p:nvSpPr>
        <p:spPr>
          <a:xfrm>
            <a:off x="755640" y="2421000"/>
            <a:ext cx="7272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tour d’information au Prescripteur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ur l’entrée du Participant non formalis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Parcours prévisionnel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 signé par le Participant en amont du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Aide au choix de l’action et accord du Participant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capitalisés dans VC en regard des propositions d’actions fa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 de la prolongation de l’étape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 d’élaboration du projet professionnel non trac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s d’arrêt ou de changement d’une 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de parcours à l’initiative du Participant non tracés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oneTexte 2"/>
          <p:cNvSpPr/>
          <p:nvPr/>
        </p:nvSpPr>
        <p:spPr>
          <a:xfrm>
            <a:off x="684360" y="2349360"/>
            <a:ext cx="7343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Objectifs de l’étape 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sont pas exprimées et tracées dans un compte-rendu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Justificatif de la prise d’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dans le dossier « papier » du Participant sans que la demande soit not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ndez-vous de suivi lors du 1</a:t>
            </a:r>
            <a:r>
              <a:rPr b="1" lang="fr-FR" sz="1800" spc="-1" strike="noStrike" baseline="30000">
                <a:solidFill>
                  <a:srgbClr val="254061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mois de la prise de post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sans que l’explication soit capitalis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Suivi mensuel interrompu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ans explication dans VC / sans courrier en amont de la demande d’arrêt de l’accompa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Evaluation de l’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reprend les points attendus en regard des objectifs fix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3"/>
          <p:cNvSpPr/>
          <p:nvPr/>
        </p:nvSpPr>
        <p:spPr>
          <a:xfrm>
            <a:off x="61128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1117440"/>
            <a:ext cx="75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La Démarche Qualité du PLIE de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765080"/>
            <a:ext cx="6048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ilotage de la Démarche Qualité de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nagement de la Direction Géné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Investissement humain et financ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Formation des Référents de Parcours PLIE (RP PL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ctualisation avec SGS-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Référentiel Qualité co-constr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Audit des différentes fonctions du P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Chef de projet dédié dans la dur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ésultats des audits de labelli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Totalité des postes de RP PLIE audi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94% de conformité en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intien du label sur 3 ans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1400040" y="24289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" descr=""/>
          <p:cNvPicPr/>
          <p:nvPr/>
        </p:nvPicPr>
        <p:blipFill>
          <a:blip r:embed="rId2"/>
          <a:stretch/>
        </p:blipFill>
        <p:spPr>
          <a:xfrm>
            <a:off x="1395360" y="273384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" descr=""/>
          <p:cNvPicPr/>
          <p:nvPr/>
        </p:nvPicPr>
        <p:blipFill>
          <a:blip r:embed="rId3"/>
          <a:stretch/>
        </p:blipFill>
        <p:spPr>
          <a:xfrm>
            <a:off x="1401840" y="33876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" descr=""/>
          <p:cNvPicPr/>
          <p:nvPr/>
        </p:nvPicPr>
        <p:blipFill>
          <a:blip r:embed="rId4"/>
          <a:stretch/>
        </p:blipFill>
        <p:spPr>
          <a:xfrm>
            <a:off x="1401840" y="368136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" descr=""/>
          <p:cNvPicPr/>
          <p:nvPr/>
        </p:nvPicPr>
        <p:blipFill>
          <a:blip r:embed="rId5"/>
          <a:stretch/>
        </p:blipFill>
        <p:spPr>
          <a:xfrm>
            <a:off x="1398600" y="2144880"/>
            <a:ext cx="108000" cy="1746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5" descr=""/>
          <p:cNvPicPr/>
          <p:nvPr/>
        </p:nvPicPr>
        <p:blipFill>
          <a:blip r:embed="rId6"/>
          <a:stretch/>
        </p:blipFill>
        <p:spPr>
          <a:xfrm>
            <a:off x="1407960" y="3957480"/>
            <a:ext cx="109800" cy="1749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5" descr=""/>
          <p:cNvPicPr/>
          <p:nvPr/>
        </p:nvPicPr>
        <p:blipFill>
          <a:blip r:embed="rId7"/>
          <a:stretch/>
        </p:blipFill>
        <p:spPr>
          <a:xfrm>
            <a:off x="1395360" y="46260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 5" descr=""/>
          <p:cNvPicPr/>
          <p:nvPr/>
        </p:nvPicPr>
        <p:blipFill>
          <a:blip r:embed="rId8"/>
          <a:stretch/>
        </p:blipFill>
        <p:spPr>
          <a:xfrm>
            <a:off x="1407960" y="4927680"/>
            <a:ext cx="109800" cy="1746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5" descr=""/>
          <p:cNvPicPr/>
          <p:nvPr/>
        </p:nvPicPr>
        <p:blipFill>
          <a:blip r:embed="rId9"/>
          <a:stretch/>
        </p:blipFill>
        <p:spPr>
          <a:xfrm>
            <a:off x="1395360" y="5205240"/>
            <a:ext cx="10944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ZoneTexte 1"/>
          <p:cNvSpPr/>
          <p:nvPr/>
        </p:nvSpPr>
        <p:spPr>
          <a:xfrm>
            <a:off x="1139760" y="1512720"/>
            <a:ext cx="720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incipales NC et OBS issues de l’audit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a validation du projet professionnel (5 NC et 4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accompagnement à la prise de poste (4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évaluation de l’étape de parcours ( 3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e choix de l’étape  (1 NC et 3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oposition de pistes de travail pour l’appui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isibilité de la méthode et des outils utilisés pour la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nition et reprise des objectifs des étapes pour l’évaluation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Recueil des informations et rédaction des comptes rendu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re 1"/>
          <p:cNvSpPr/>
          <p:nvPr/>
        </p:nvSpPr>
        <p:spPr>
          <a:xfrm>
            <a:off x="2050920" y="86508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Zones à risques d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oneTexte 3"/>
          <p:cNvSpPr/>
          <p:nvPr/>
        </p:nvSpPr>
        <p:spPr>
          <a:xfrm>
            <a:off x="1230480" y="5799240"/>
            <a:ext cx="6792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L’audit révèle-t-il bien les difficultés de mise en œuvre de l’accompagnement PLIE et se concentre-t-il sur l’essenti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5" descr=""/>
          <p:cNvPicPr/>
          <p:nvPr/>
        </p:nvPicPr>
        <p:blipFill>
          <a:blip r:embed="rId1"/>
          <a:stretch/>
        </p:blipFill>
        <p:spPr>
          <a:xfrm>
            <a:off x="1481040" y="2073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6" name="Image 5" descr=""/>
          <p:cNvPicPr/>
          <p:nvPr/>
        </p:nvPicPr>
        <p:blipFill>
          <a:blip r:embed="rId2"/>
          <a:stretch/>
        </p:blipFill>
        <p:spPr>
          <a:xfrm>
            <a:off x="1481040" y="245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7" name="Image 5" descr=""/>
          <p:cNvPicPr/>
          <p:nvPr/>
        </p:nvPicPr>
        <p:blipFill>
          <a:blip r:embed="rId3"/>
          <a:stretch/>
        </p:blipFill>
        <p:spPr>
          <a:xfrm>
            <a:off x="1481040" y="287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8" name="Image 5" descr=""/>
          <p:cNvPicPr/>
          <p:nvPr/>
        </p:nvPicPr>
        <p:blipFill>
          <a:blip r:embed="rId4"/>
          <a:stretch/>
        </p:blipFill>
        <p:spPr>
          <a:xfrm>
            <a:off x="1481040" y="32958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9" name="Image 5" descr=""/>
          <p:cNvPicPr/>
          <p:nvPr/>
        </p:nvPicPr>
        <p:blipFill>
          <a:blip r:embed="rId5"/>
          <a:stretch/>
        </p:blipFill>
        <p:spPr>
          <a:xfrm>
            <a:off x="1481040" y="43657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50" name="Image 5" descr=""/>
          <p:cNvPicPr/>
          <p:nvPr/>
        </p:nvPicPr>
        <p:blipFill>
          <a:blip r:embed="rId6"/>
          <a:stretch/>
        </p:blipFill>
        <p:spPr>
          <a:xfrm>
            <a:off x="1481040" y="479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1" name="Image 5" descr=""/>
          <p:cNvPicPr/>
          <p:nvPr/>
        </p:nvPicPr>
        <p:blipFill>
          <a:blip r:embed="rId7"/>
          <a:stretch/>
        </p:blipFill>
        <p:spPr>
          <a:xfrm>
            <a:off x="1481040" y="52214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re 1"/>
          <p:cNvSpPr/>
          <p:nvPr/>
        </p:nvSpPr>
        <p:spPr>
          <a:xfrm>
            <a:off x="10800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Représentants du réseau des Référents de Parcours 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3"/>
          <p:cNvSpPr/>
          <p:nvPr/>
        </p:nvSpPr>
        <p:spPr>
          <a:xfrm>
            <a:off x="779400" y="5970600"/>
            <a:ext cx="7224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Comment maintenir la participation active des RPP et la co-construction de la labellisation du service d’accompagnement PL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971640" y="1773360"/>
            <a:ext cx="6840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adrage de leur rôle au sein de la D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erlocuteurs identifiées et valorisées auprès des 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obilisés lors des réunions techniques de la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 lien étroit avec l’équipe du PLIE sur l’appui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oposition de moyens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position d’une réunion technique DQS en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ésentation en réunion grand groupe de sept.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articipation au prochain COTEC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sion dans le cadre de la révision du référenti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Image 5" descr=""/>
          <p:cNvPicPr/>
          <p:nvPr/>
        </p:nvPicPr>
        <p:blipFill>
          <a:blip r:embed="rId1"/>
          <a:stretch/>
        </p:blipFill>
        <p:spPr>
          <a:xfrm>
            <a:off x="1403280" y="2376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6" name="Image 5" descr=""/>
          <p:cNvPicPr/>
          <p:nvPr/>
        </p:nvPicPr>
        <p:blipFill>
          <a:blip r:embed="rId2"/>
          <a:stretch/>
        </p:blipFill>
        <p:spPr>
          <a:xfrm>
            <a:off x="1403280" y="2825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7" name="Image 5" descr=""/>
          <p:cNvPicPr/>
          <p:nvPr/>
        </p:nvPicPr>
        <p:blipFill>
          <a:blip r:embed="rId3"/>
          <a:stretch/>
        </p:blipFill>
        <p:spPr>
          <a:xfrm>
            <a:off x="1406520" y="3270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8" name="Image 5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9" name="Image 5" descr=""/>
          <p:cNvPicPr/>
          <p:nvPr/>
        </p:nvPicPr>
        <p:blipFill>
          <a:blip r:embed="rId5"/>
          <a:stretch/>
        </p:blipFill>
        <p:spPr>
          <a:xfrm>
            <a:off x="1403280" y="47023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"/>
          <p:cNvPicPr/>
          <p:nvPr/>
        </p:nvPicPr>
        <p:blipFill>
          <a:blip r:embed="rId6"/>
          <a:stretch/>
        </p:blipFill>
        <p:spPr>
          <a:xfrm>
            <a:off x="1403280" y="51465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61" name="Image 5" descr=""/>
          <p:cNvPicPr/>
          <p:nvPr/>
        </p:nvPicPr>
        <p:blipFill>
          <a:blip r:embed="rId7"/>
          <a:stretch/>
        </p:blipFill>
        <p:spPr>
          <a:xfrm>
            <a:off x="1403280" y="560232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95280" y="1125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émoignage des Référents de Parcour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oneTexte 3"/>
          <p:cNvSpPr/>
          <p:nvPr/>
        </p:nvSpPr>
        <p:spPr>
          <a:xfrm>
            <a:off x="927000" y="1773360"/>
            <a:ext cx="68850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Acceptation du cadre de référenc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firmation des engagements cho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Lien avec la formation continue des R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Valorisation de l’appui apporté par l’équipe d’animation du PLI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intes, le travail supplémentaire et le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roximité des dates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ntre l’audit blanc et l’audit de labe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Trop de points de contrôle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une mise en conformité « sans fin »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isque d’un accompagnement stéréo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324000" y="1952640"/>
            <a:ext cx="3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324000" y="4221000"/>
            <a:ext cx="3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cteur droit 7"/>
          <p:cNvSpPr/>
          <p:nvPr/>
        </p:nvSpPr>
        <p:spPr>
          <a:xfrm>
            <a:off x="709560" y="1773360"/>
            <a:ext cx="0" cy="18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necteur droit 9"/>
          <p:cNvSpPr/>
          <p:nvPr/>
        </p:nvSpPr>
        <p:spPr>
          <a:xfrm>
            <a:off x="709560" y="4076640"/>
            <a:ext cx="0" cy="183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4"/>
          <p:cNvSpPr/>
          <p:nvPr/>
        </p:nvSpPr>
        <p:spPr>
          <a:xfrm>
            <a:off x="638280" y="1851120"/>
            <a:ext cx="738972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Animation du Club Participants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connaissance de l’avis expert des personnes accompag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égration des Participants PLIE dans l’évaluation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ccès à la prise de parole au sein des instances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grammation régulière de réunions dans l’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cription volontaire des Participant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nimation réalisée par le 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incipaux sujets de l’année 2018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’intérêt des emplois de parcours -  le binôme du RP PLIE avec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travailleur social – la formation comme accès à l’emploi durable –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financement de la formation – les partenaires utiles et de proximité –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es aides à l’emploi pour les Travailleurs Handicapés – la validation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d’un projet de reconversion – le maintien en emploi sur le premier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mois –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1" name="Image 5" descr=""/>
          <p:cNvPicPr/>
          <p:nvPr/>
        </p:nvPicPr>
        <p:blipFill>
          <a:blip r:embed="rId2"/>
          <a:stretch/>
        </p:blipFill>
        <p:spPr>
          <a:xfrm>
            <a:off x="1195560" y="2641680"/>
            <a:ext cx="107640" cy="176040"/>
          </a:xfrm>
          <a:prstGeom prst="rect">
            <a:avLst/>
          </a:prstGeom>
          <a:ln w="0">
            <a:noFill/>
          </a:ln>
        </p:spPr>
      </p:pic>
      <p:pic>
        <p:nvPicPr>
          <p:cNvPr id="472" name="Image 5" descr=""/>
          <p:cNvPicPr/>
          <p:nvPr/>
        </p:nvPicPr>
        <p:blipFill>
          <a:blip r:embed="rId3"/>
          <a:stretch/>
        </p:blipFill>
        <p:spPr>
          <a:xfrm>
            <a:off x="1195560" y="2968560"/>
            <a:ext cx="107640" cy="176400"/>
          </a:xfrm>
          <a:prstGeom prst="rect">
            <a:avLst/>
          </a:prstGeom>
          <a:ln w="0">
            <a:noFill/>
          </a:ln>
        </p:spPr>
      </p:pic>
      <p:pic>
        <p:nvPicPr>
          <p:cNvPr id="473" name="Image 5" descr=""/>
          <p:cNvPicPr/>
          <p:nvPr/>
        </p:nvPicPr>
        <p:blipFill>
          <a:blip r:embed="rId4"/>
          <a:stretch/>
        </p:blipFill>
        <p:spPr>
          <a:xfrm>
            <a:off x="1187280" y="33591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4" name="Image 5" descr=""/>
          <p:cNvPicPr/>
          <p:nvPr/>
        </p:nvPicPr>
        <p:blipFill>
          <a:blip r:embed="rId5"/>
          <a:stretch/>
        </p:blipFill>
        <p:spPr>
          <a:xfrm>
            <a:off x="1187280" y="3664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5" name="Image 5" descr=""/>
          <p:cNvPicPr/>
          <p:nvPr/>
        </p:nvPicPr>
        <p:blipFill>
          <a:blip r:embed="rId6"/>
          <a:stretch/>
        </p:blipFill>
        <p:spPr>
          <a:xfrm>
            <a:off x="1195560" y="3967200"/>
            <a:ext cx="10764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ZoneTexte 1"/>
          <p:cNvSpPr/>
          <p:nvPr/>
        </p:nvSpPr>
        <p:spPr>
          <a:xfrm>
            <a:off x="611280" y="1844640"/>
            <a:ext cx="74167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enquête de satisfaction du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ait partie du suivi de la qualité – 2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m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cerne les Participants PLIE à la sortie de l’accompa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limente une synthèse et un plan d’action le cas éché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Sa mise en œuvre en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xclusivement réalisée au télé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près d’un panel de 115 Participants PLIE de sept. à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sultat global de 85% de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points de vigilance et de correction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uffisante connaissance de l’offre de service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ragilisation de la relation lors du changement de RP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anque de coordination dans la circulation des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5" descr=""/>
          <p:cNvPicPr/>
          <p:nvPr/>
        </p:nvPicPr>
        <p:blipFill>
          <a:blip r:embed="rId2"/>
          <a:stretch/>
        </p:blipFill>
        <p:spPr>
          <a:xfrm>
            <a:off x="1187280" y="26240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0" name="Image 5" descr=""/>
          <p:cNvPicPr/>
          <p:nvPr/>
        </p:nvPicPr>
        <p:blipFill>
          <a:blip r:embed="rId3"/>
          <a:stretch/>
        </p:blipFill>
        <p:spPr>
          <a:xfrm>
            <a:off x="1192320" y="2928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5" descr=""/>
          <p:cNvPicPr/>
          <p:nvPr/>
        </p:nvPicPr>
        <p:blipFill>
          <a:blip r:embed="rId4"/>
          <a:stretch/>
        </p:blipFill>
        <p:spPr>
          <a:xfrm>
            <a:off x="1187280" y="3745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2" name="Image 5" descr=""/>
          <p:cNvPicPr/>
          <p:nvPr/>
        </p:nvPicPr>
        <p:blipFill>
          <a:blip r:embed="rId5"/>
          <a:stretch/>
        </p:blipFill>
        <p:spPr>
          <a:xfrm>
            <a:off x="1187280" y="4049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3" name="Image 5" descr=""/>
          <p:cNvPicPr/>
          <p:nvPr/>
        </p:nvPicPr>
        <p:blipFill>
          <a:blip r:embed="rId6"/>
          <a:stretch/>
        </p:blipFill>
        <p:spPr>
          <a:xfrm>
            <a:off x="1187280" y="43513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5" descr=""/>
          <p:cNvPicPr/>
          <p:nvPr/>
        </p:nvPicPr>
        <p:blipFill>
          <a:blip r:embed="rId7"/>
          <a:stretch/>
        </p:blipFill>
        <p:spPr>
          <a:xfrm>
            <a:off x="1187280" y="521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8"/>
          <a:stretch/>
        </p:blipFill>
        <p:spPr>
          <a:xfrm>
            <a:off x="1187280" y="552600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6" name="Image 5" descr=""/>
          <p:cNvPicPr/>
          <p:nvPr/>
        </p:nvPicPr>
        <p:blipFill>
          <a:blip r:embed="rId9"/>
          <a:stretch/>
        </p:blipFill>
        <p:spPr>
          <a:xfrm>
            <a:off x="1187280" y="583560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ZoneTexte 2"/>
          <p:cNvSpPr/>
          <p:nvPr/>
        </p:nvSpPr>
        <p:spPr>
          <a:xfrm>
            <a:off x="1619280" y="1773360"/>
            <a:ext cx="58323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s évolutions de la DQS de 2019 à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dit de labellisation du 07/10 au 1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12 RPP et équipe d’animation du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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Tous les parcours PLIE entrées/sorties 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9" name="Image 5" descr=""/>
          <p:cNvPicPr/>
          <p:nvPr/>
        </p:nvPicPr>
        <p:blipFill>
          <a:blip r:embed="rId2"/>
          <a:stretch/>
        </p:blipFill>
        <p:spPr>
          <a:xfrm>
            <a:off x="2195640" y="30402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0" name="Image 5" descr=""/>
          <p:cNvPicPr/>
          <p:nvPr/>
        </p:nvPicPr>
        <p:blipFill>
          <a:blip r:embed="rId3"/>
          <a:stretch/>
        </p:blipFill>
        <p:spPr>
          <a:xfrm>
            <a:off x="2195640" y="3510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1" name="Image 5" descr=""/>
          <p:cNvPicPr/>
          <p:nvPr/>
        </p:nvPicPr>
        <p:blipFill>
          <a:blip r:embed="rId4"/>
          <a:stretch/>
        </p:blipFill>
        <p:spPr>
          <a:xfrm>
            <a:off x="2195640" y="3933720"/>
            <a:ext cx="108000" cy="176400"/>
          </a:xfrm>
          <a:prstGeom prst="rect">
            <a:avLst/>
          </a:prstGeom>
          <a:ln w="0">
            <a:noFill/>
          </a:ln>
        </p:spPr>
      </p:pic>
      <p:sp>
        <p:nvSpPr>
          <p:cNvPr id="492" name="Titre 1"/>
          <p:cNvSpPr/>
          <p:nvPr/>
        </p:nvSpPr>
        <p:spPr>
          <a:xfrm>
            <a:off x="1332000" y="101916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Nouveau cycle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5" descr=""/>
          <p:cNvPicPr/>
          <p:nvPr/>
        </p:nvPicPr>
        <p:blipFill>
          <a:blip r:embed="rId5"/>
          <a:stretch/>
        </p:blipFill>
        <p:spPr>
          <a:xfrm>
            <a:off x="2195640" y="4361040"/>
            <a:ext cx="108000" cy="17604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9"/>
          <p:cNvSpPr/>
          <p:nvPr/>
        </p:nvSpPr>
        <p:spPr>
          <a:xfrm>
            <a:off x="826920" y="5605560"/>
            <a:ext cx="741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 Les enjeux de la DQS sur les prochaines années correspondent-ils à notre maturité d’usage de la DQS et à notre capacité d’investis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0" y="117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1</a:t>
            </a:r>
            <a:r>
              <a:rPr b="0" lang="fr-FR" sz="2800" spc="-1" strike="noStrike" baseline="30000">
                <a:solidFill>
                  <a:srgbClr val="ab0d82"/>
                </a:solidFill>
                <a:latin typeface="Calibri"/>
              </a:rPr>
              <a:t>ère</a:t>
            </a: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 révision du référentiel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oneTexte 2"/>
          <p:cNvSpPr/>
          <p:nvPr/>
        </p:nvSpPr>
        <p:spPr>
          <a:xfrm>
            <a:off x="971640" y="2060640"/>
            <a:ext cx="6624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modalités de révision du référ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stitution d’un group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Lancement en novembr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ythme continu d’une journée par tri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régulier d’IGS-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inalisation de la rédaction en novemb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appui de SGS –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vision des critères d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e en forme et actualisation des outil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lecture des plans d’actions issues du contrô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Organisation des vague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 5" descr=""/>
          <p:cNvPicPr/>
          <p:nvPr/>
        </p:nvPicPr>
        <p:blipFill>
          <a:blip r:embed="rId1"/>
          <a:stretch/>
        </p:blipFill>
        <p:spPr>
          <a:xfrm>
            <a:off x="1447920" y="4653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8" name="Image 5" descr=""/>
          <p:cNvPicPr/>
          <p:nvPr/>
        </p:nvPicPr>
        <p:blipFill>
          <a:blip r:embed="rId2"/>
          <a:stretch/>
        </p:blipFill>
        <p:spPr>
          <a:xfrm>
            <a:off x="1447920" y="49593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5" descr=""/>
          <p:cNvPicPr/>
          <p:nvPr/>
        </p:nvPicPr>
        <p:blipFill>
          <a:blip r:embed="rId3"/>
          <a:stretch/>
        </p:blipFill>
        <p:spPr>
          <a:xfrm>
            <a:off x="1447920" y="5264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0" name="Image 5" descr=""/>
          <p:cNvPicPr/>
          <p:nvPr/>
        </p:nvPicPr>
        <p:blipFill>
          <a:blip r:embed="rId4"/>
          <a:stretch/>
        </p:blipFill>
        <p:spPr>
          <a:xfrm>
            <a:off x="1450800" y="24922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1" name="Image 5" descr=""/>
          <p:cNvPicPr/>
          <p:nvPr/>
        </p:nvPicPr>
        <p:blipFill>
          <a:blip r:embed="rId5"/>
          <a:stretch/>
        </p:blipFill>
        <p:spPr>
          <a:xfrm>
            <a:off x="1447920" y="2816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"/>
          <p:cNvPicPr/>
          <p:nvPr/>
        </p:nvPicPr>
        <p:blipFill>
          <a:blip r:embed="rId6"/>
          <a:stretch/>
        </p:blipFill>
        <p:spPr>
          <a:xfrm>
            <a:off x="1447920" y="31384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5" descr=""/>
          <p:cNvPicPr/>
          <p:nvPr/>
        </p:nvPicPr>
        <p:blipFill>
          <a:blip r:embed="rId7"/>
          <a:stretch/>
        </p:blipFill>
        <p:spPr>
          <a:xfrm>
            <a:off x="1447920" y="3456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4" name="Image 5" descr=""/>
          <p:cNvPicPr/>
          <p:nvPr/>
        </p:nvPicPr>
        <p:blipFill>
          <a:blip r:embed="rId8"/>
          <a:stretch/>
        </p:blipFill>
        <p:spPr>
          <a:xfrm>
            <a:off x="1447920" y="3772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5" name="Image 5" descr=""/>
          <p:cNvPicPr/>
          <p:nvPr/>
        </p:nvPicPr>
        <p:blipFill>
          <a:blip r:embed="rId9"/>
          <a:stretch/>
        </p:blipFill>
        <p:spPr>
          <a:xfrm>
            <a:off x="1447920" y="55706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34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2060"/>
                </a:solidFill>
                <a:latin typeface="Calibri"/>
              </a:rPr>
              <a:t>Merci!</a:t>
            </a:r>
            <a:br>
              <a:rPr sz="8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re 1"/>
          <p:cNvSpPr/>
          <p:nvPr/>
        </p:nvSpPr>
        <p:spPr>
          <a:xfrm>
            <a:off x="755640" y="1179360"/>
            <a:ext cx="7423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Thématiques du Référenti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llipse 23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4"/>
          <p:cNvSpPr/>
          <p:nvPr/>
        </p:nvSpPr>
        <p:spPr>
          <a:xfrm>
            <a:off x="611280" y="4703760"/>
            <a:ext cx="75610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stissement et une vigilance tout au long du parcour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lipse 36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ZoneTexte 1"/>
          <p:cNvSpPr/>
          <p:nvPr/>
        </p:nvSpPr>
        <p:spPr>
          <a:xfrm>
            <a:off x="755640" y="1052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Engagements impliquant les Référents de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2"/>
          <p:cNvSpPr/>
          <p:nvPr/>
        </p:nvSpPr>
        <p:spPr>
          <a:xfrm>
            <a:off x="1187280" y="1844640"/>
            <a:ext cx="6624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diagnostic d’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8 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retour d’information au prescri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2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Comité d’Accès et de Suivi « Entré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3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’élabor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4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a valid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5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information des participants en amont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8 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à la pris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9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dans l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4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e choix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5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œuvre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6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relation avec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7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’évaluation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C19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La mise en relation avec un organ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e Comité d’Accès et de Suivi «  Sortie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oneTexte 2"/>
          <p:cNvSpPr/>
          <p:nvPr/>
        </p:nvSpPr>
        <p:spPr>
          <a:xfrm>
            <a:off x="1547640" y="23493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3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labora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8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a la prise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9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dans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17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valuation de l’é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age 5" descr=""/>
          <p:cNvPicPr/>
          <p:nvPr/>
        </p:nvPicPr>
        <p:blipFill>
          <a:blip r:embed="rId1"/>
          <a:stretch/>
        </p:blipFill>
        <p:spPr>
          <a:xfrm>
            <a:off x="1163520" y="1996920"/>
            <a:ext cx="263520" cy="360360"/>
          </a:xfrm>
          <a:prstGeom prst="rect">
            <a:avLst/>
          </a:prstGeom>
          <a:ln w="0">
            <a:noFill/>
          </a:ln>
        </p:spPr>
      </p:pic>
      <p:pic>
        <p:nvPicPr>
          <p:cNvPr id="338" name="Image 5" descr=""/>
          <p:cNvPicPr/>
          <p:nvPr/>
        </p:nvPicPr>
        <p:blipFill>
          <a:blip r:embed="rId2"/>
          <a:stretch/>
        </p:blipFill>
        <p:spPr>
          <a:xfrm>
            <a:off x="1149480" y="4195800"/>
            <a:ext cx="263520" cy="360360"/>
          </a:xfrm>
          <a:prstGeom prst="rect">
            <a:avLst/>
          </a:prstGeom>
          <a:ln w="0">
            <a:noFill/>
          </a:ln>
        </p:spPr>
      </p:pic>
      <p:sp>
        <p:nvSpPr>
          <p:cNvPr id="339" name="Titre 1"/>
          <p:cNvSpPr/>
          <p:nvPr/>
        </p:nvSpPr>
        <p:spPr>
          <a:xfrm>
            <a:off x="395280" y="1197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ogression des engagements depuis 2016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"/>
          <p:cNvSpPr/>
          <p:nvPr/>
        </p:nvSpPr>
        <p:spPr>
          <a:xfrm>
            <a:off x="1547640" y="191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7:  + 4 engagements = 2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547640" y="40831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8:  + 2 engagements = 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2  </a:t>
            </a: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10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la fin de la période d’emploi 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8280" y="1193400"/>
            <a:ext cx="7848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udit de labellisatio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60440" y="3284640"/>
            <a:ext cx="6624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Calibri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RPP en 2016 + 16 RPP en 2017 + 19 RPP en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Information auprès des RPP audités dés le mois de fév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Image 5" descr=""/>
          <p:cNvPicPr/>
          <p:nvPr/>
        </p:nvPicPr>
        <p:blipFill>
          <a:blip r:embed="rId1"/>
          <a:stretch/>
        </p:blipFill>
        <p:spPr>
          <a:xfrm>
            <a:off x="963720" y="2479680"/>
            <a:ext cx="291960" cy="469800"/>
          </a:xfrm>
          <a:prstGeom prst="rect">
            <a:avLst/>
          </a:prstGeom>
          <a:ln w="0">
            <a:noFill/>
          </a:ln>
        </p:spPr>
      </p:pic>
      <p:sp>
        <p:nvSpPr>
          <p:cNvPr id="345" name="ZoneTexte 9"/>
          <p:cNvSpPr/>
          <p:nvPr/>
        </p:nvSpPr>
        <p:spPr>
          <a:xfrm>
            <a:off x="1355760" y="2322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36 postes de Référents de Parcours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avec </a:t>
            </a: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53 sites d’implantation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sur 9 arrondissements de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2"/>
          <p:cNvSpPr/>
          <p:nvPr/>
        </p:nvSpPr>
        <p:spPr>
          <a:xfrm>
            <a:off x="1355760" y="443232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équipe d’animation est auditée tous les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enquête de satisfaction et les interviews pour le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5" descr=""/>
          <p:cNvPicPr/>
          <p:nvPr/>
        </p:nvPicPr>
        <p:blipFill>
          <a:blip r:embed="rId2"/>
          <a:stretch/>
        </p:blipFill>
        <p:spPr>
          <a:xfrm>
            <a:off x="963720" y="3495600"/>
            <a:ext cx="291960" cy="471600"/>
          </a:xfrm>
          <a:prstGeom prst="rect">
            <a:avLst/>
          </a:prstGeom>
          <a:ln w="0">
            <a:noFill/>
          </a:ln>
        </p:spPr>
      </p:pic>
      <p:pic>
        <p:nvPicPr>
          <p:cNvPr id="348" name="Image 5" descr=""/>
          <p:cNvPicPr/>
          <p:nvPr/>
        </p:nvPicPr>
        <p:blipFill>
          <a:blip r:embed="rId3"/>
          <a:stretch/>
        </p:blipFill>
        <p:spPr>
          <a:xfrm>
            <a:off x="963720" y="4551480"/>
            <a:ext cx="2919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95560" y="969840"/>
            <a:ext cx="597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Planning de la DQS e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7"/>
          <p:cNvSpPr/>
          <p:nvPr/>
        </p:nvSpPr>
        <p:spPr>
          <a:xfrm>
            <a:off x="1022400" y="2824200"/>
            <a:ext cx="209232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ppui Technique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3387600" y="2700360"/>
            <a:ext cx="801720" cy="580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B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9"/>
          <p:cNvSpPr/>
          <p:nvPr/>
        </p:nvSpPr>
        <p:spPr>
          <a:xfrm>
            <a:off x="6832440" y="2697120"/>
            <a:ext cx="126864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de Label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0"/>
          <p:cNvSpPr/>
          <p:nvPr/>
        </p:nvSpPr>
        <p:spPr>
          <a:xfrm>
            <a:off x="1781280" y="1893960"/>
            <a:ext cx="3603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1"/>
          <p:cNvSpPr/>
          <p:nvPr/>
        </p:nvSpPr>
        <p:spPr>
          <a:xfrm>
            <a:off x="3713040" y="1898640"/>
            <a:ext cx="3603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2"/>
          <p:cNvSpPr/>
          <p:nvPr/>
        </p:nvSpPr>
        <p:spPr>
          <a:xfrm>
            <a:off x="7292880" y="1897200"/>
            <a:ext cx="360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42"/>
          <p:cNvSpPr/>
          <p:nvPr/>
        </p:nvSpPr>
        <p:spPr>
          <a:xfrm>
            <a:off x="2316240" y="3373560"/>
            <a:ext cx="798480" cy="5806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omité T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45"/>
          <p:cNvSpPr/>
          <p:nvPr/>
        </p:nvSpPr>
        <p:spPr>
          <a:xfrm>
            <a:off x="6843600" y="3376440"/>
            <a:ext cx="125892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022400" y="4038480"/>
            <a:ext cx="7078680" cy="337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quip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22"/>
          <p:cNvSpPr/>
          <p:nvPr/>
        </p:nvSpPr>
        <p:spPr>
          <a:xfrm>
            <a:off x="1022400" y="22906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24"/>
          <p:cNvSpPr/>
          <p:nvPr/>
        </p:nvSpPr>
        <p:spPr>
          <a:xfrm>
            <a:off x="2370240" y="228276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26"/>
          <p:cNvSpPr/>
          <p:nvPr/>
        </p:nvSpPr>
        <p:spPr>
          <a:xfrm>
            <a:off x="4302000" y="2286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necteur droit avec flèche 11263"/>
          <p:cNvCxnSpPr>
            <a:stCxn id="351" idx="3"/>
            <a:endCxn id="363" idx="1"/>
          </p:cNvCxnSpPr>
          <p:nvPr/>
        </p:nvCxnSpPr>
        <p:spPr>
          <a:xfrm flipV="1">
            <a:off x="4189320" y="2989080"/>
            <a:ext cx="30060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4" name="ZoneTexte 100"/>
          <p:cNvSpPr/>
          <p:nvPr/>
        </p:nvSpPr>
        <p:spPr>
          <a:xfrm>
            <a:off x="5334120" y="1922400"/>
            <a:ext cx="326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oneTexte 101"/>
          <p:cNvSpPr/>
          <p:nvPr/>
        </p:nvSpPr>
        <p:spPr>
          <a:xfrm>
            <a:off x="4489560" y="2819520"/>
            <a:ext cx="204300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ppui Technique N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20"/>
          <p:cNvSpPr/>
          <p:nvPr/>
        </p:nvSpPr>
        <p:spPr>
          <a:xfrm>
            <a:off x="5889600" y="2290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necteur droit avec flèche 105"/>
          <p:cNvCxnSpPr>
            <a:stCxn id="350" idx="3"/>
            <a:endCxn id="351" idx="1"/>
          </p:cNvCxnSpPr>
          <p:nvPr/>
        </p:nvCxnSpPr>
        <p:spPr>
          <a:xfrm>
            <a:off x="3114720" y="2991960"/>
            <a:ext cx="2732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7" name="ZoneTexte 11307"/>
          <p:cNvSpPr/>
          <p:nvPr/>
        </p:nvSpPr>
        <p:spPr>
          <a:xfrm>
            <a:off x="5673600" y="3370320"/>
            <a:ext cx="115884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40"/>
          <p:cNvSpPr/>
          <p:nvPr/>
        </p:nvSpPr>
        <p:spPr>
          <a:xfrm>
            <a:off x="1022400" y="3368520"/>
            <a:ext cx="126036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20"/>
          <p:cNvSpPr/>
          <p:nvPr/>
        </p:nvSpPr>
        <p:spPr>
          <a:xfrm>
            <a:off x="7062840" y="22906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9"/>
          <p:cNvSpPr/>
          <p:nvPr/>
        </p:nvSpPr>
        <p:spPr>
          <a:xfrm>
            <a:off x="4465800" y="3368520"/>
            <a:ext cx="120780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nquête de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cteur droit avec flèche 70"/>
          <p:cNvCxnSpPr>
            <a:stCxn id="363" idx="3"/>
            <a:endCxn id="352" idx="1"/>
          </p:cNvCxnSpPr>
          <p:nvPr/>
        </p:nvCxnSpPr>
        <p:spPr>
          <a:xfrm>
            <a:off x="6532200" y="2989080"/>
            <a:ext cx="30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2" name="ZoneTexte 58"/>
          <p:cNvSpPr/>
          <p:nvPr/>
        </p:nvSpPr>
        <p:spPr>
          <a:xfrm>
            <a:off x="998640" y="4622760"/>
            <a:ext cx="7296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évolutions en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 + 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r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révision du référentiel de label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 / Participants en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ibution au sein du réseau des PLIE – Europlie /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 5" descr=""/>
          <p:cNvPicPr/>
          <p:nvPr/>
        </p:nvPicPr>
        <p:blipFill>
          <a:blip r:embed="rId1"/>
          <a:stretch/>
        </p:blipFill>
        <p:spPr>
          <a:xfrm>
            <a:off x="1587600" y="51166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5" descr=""/>
          <p:cNvPicPr/>
          <p:nvPr/>
        </p:nvPicPr>
        <p:blipFill>
          <a:blip r:embed="rId2"/>
          <a:stretch/>
        </p:blipFill>
        <p:spPr>
          <a:xfrm>
            <a:off x="1585800" y="54291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5" name="Image 5" descr=""/>
          <p:cNvPicPr/>
          <p:nvPr/>
        </p:nvPicPr>
        <p:blipFill>
          <a:blip r:embed="rId3"/>
          <a:stretch/>
        </p:blipFill>
        <p:spPr>
          <a:xfrm>
            <a:off x="1585800" y="57164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5" descr=""/>
          <p:cNvPicPr/>
          <p:nvPr/>
        </p:nvPicPr>
        <p:blipFill>
          <a:blip r:embed="rId4"/>
          <a:stretch/>
        </p:blipFill>
        <p:spPr>
          <a:xfrm>
            <a:off x="1589040" y="60069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 5" descr=""/>
          <p:cNvPicPr/>
          <p:nvPr/>
        </p:nvPicPr>
        <p:blipFill>
          <a:blip r:embed="rId5"/>
          <a:stretch/>
        </p:blipFill>
        <p:spPr>
          <a:xfrm>
            <a:off x="1585800" y="634032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086680" cy="33847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3"/>
          <p:cNvSpPr/>
          <p:nvPr/>
        </p:nvSpPr>
        <p:spPr>
          <a:xfrm>
            <a:off x="417600" y="1125360"/>
            <a:ext cx="7848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2060"/>
                </a:solidFill>
                <a:latin typeface="Calibri"/>
              </a:rPr>
              <a:t>T3. Travail sur le projet profes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oneTexte 4"/>
          <p:cNvSpPr/>
          <p:nvPr/>
        </p:nvSpPr>
        <p:spPr>
          <a:xfrm>
            <a:off x="468360" y="1628640"/>
            <a:ext cx="79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2 engagements (C3 –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3 « Elaboration du Projet professionne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5"/>
          <p:cNvSpPr/>
          <p:nvPr/>
        </p:nvSpPr>
        <p:spPr>
          <a:xfrm>
            <a:off x="539640" y="2492280"/>
            <a:ext cx="79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 projet professionnel validé / élaboré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formalisation argumentée du projet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parcours PLIE coordonné au résultat de l’éta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6"/>
          <p:cNvSpPr/>
          <p:nvPr/>
        </p:nvSpPr>
        <p:spPr>
          <a:xfrm>
            <a:off x="539640" y="4292640"/>
            <a:ext cx="684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Obtenir une validation du projet en début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Proposer des solutions formation et emploi adap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7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5" name="Image 8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6" name="Image 9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7" name="Image 10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2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144360" cy="2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6:15Z</dcterms:created>
  <dc:creator>Saymard thierry</dc:creator>
  <dc:description/>
  <dc:language>en-US</dc:language>
  <cp:lastModifiedBy>Thierry SAYMARD</cp:lastModifiedBy>
  <cp:lastPrinted>2017-12-11T11:52:05Z</cp:lastPrinted>
  <dcterms:modified xsi:type="dcterms:W3CDTF">2019-07-04T04:38:30Z</dcterms:modified>
  <cp:revision>325</cp:revision>
  <dc:subject/>
  <dc:title>Page de couverture</dc:title>
</cp:coreProperties>
</file>